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DFF-D189-48C7-91B2-B9306067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D65-A5F3-44AE-A504-73288F07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989-647C-47F9-8307-DECD9263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8D2-8D15-4CAE-A662-3F3B008A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47E4-5565-436E-AEAD-C5973841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6DD1-1374-4819-A890-B38CCE50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E467-DE0E-4D46-B7CA-FAEB77F6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466A-5C7A-45B2-B52E-BBD3DC74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A570-646A-4984-BB5F-700D01F6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AD13-0E65-4C48-B9E7-768AE02E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E3D4-00AE-4218-A2AF-655797A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671-03B6-4460-962F-7CE12246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173B-04D9-41CA-B210-038C8AFF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BC4C-6B3F-4565-A2CF-68E182A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A669-65D7-4814-BD8F-CA264C09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51A7-88E4-467A-94E0-86D23990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83F-092E-4B82-B98E-4F5A0BD7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8EE-9CAB-4522-B9B8-3175F92A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AB1-4BCF-4D05-9097-E4A2F5AA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A93-3B01-4923-8374-B3A1F3EE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C22-EB72-40C7-B9CC-B7D9AC74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9EC-C895-40A0-81F6-D211B0B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249-BB12-45A3-994B-B0BD137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4E5-96EE-4E03-83F9-A146AF7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45C-2E4B-48CF-A4A0-0156017025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A31C-CADD-42E7-AFA4-424AE2ECB4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muhammad cartoon"/>
          <p:cNvPicPr/>
          <p:nvPr/>
        </p:nvPicPr>
        <p:blipFill>
          <a:blip r:embed="rId1"/>
          <a:stretch/>
        </p:blipFill>
        <p:spPr>
          <a:xfrm>
            <a:off x="304920" y="152280"/>
            <a:ext cx="4952880" cy="4275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" name="Text Box 5"/>
          <p:cNvSpPr/>
          <p:nvPr/>
        </p:nvSpPr>
        <p:spPr>
          <a:xfrm>
            <a:off x="5334120" y="1522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ellringer   3/7/20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685800"/>
            <a:ext cx="3276720" cy="41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</a:rPr>
              <a:t>Much like the political cartoon on this slide, we have a tainted view of Islam and of Muslims.  Answer the following questions on your bellringer page.  You have the first 4 minutes of class to get this d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4471920"/>
            <a:ext cx="91440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hat are some of the stereotypes of Muslims you and your group have?  List at least 3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o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elieve that we have these stereotyp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 two things you already know/think you know about Isl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3-07T13:19:36Z</dcterms:modified>
  <cp:revision>9</cp:revision>
  <dc:subject/>
  <dc:title>Slide 1</dc:title>
</cp:coreProperties>
</file>